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hammer.wav" ContentType="audio/x-wav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04EB-E878-4C00-BC78-D047C95E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E28-B2B0-4FDF-91CA-F0AEAB59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3959-0A71-4E4D-A961-DEB6C204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60A-ECEC-45A4-9F98-BA9EFA99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BE38-4F62-43B9-81C4-FCFA6CBF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CC20-A04B-49B9-92A3-14BCEB80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49D3-4FC2-448F-86DB-DE46DB23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9AAE-C8B6-4579-B53A-84DFAEC3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1EAC-5F25-48F1-9210-4E62507F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B628-B65B-4C4F-98C4-332E1B8B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9589-61B5-42E5-B7D0-CB7C04F3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10D-DE9F-4497-AB2B-D9281FDD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B03D-A246-444B-958E-8173954F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3489-168C-4BC0-B4CA-15BB232B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29BD-5D42-4487-A5C2-ABFCE680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0DFE-EF66-4957-A112-ED1C6A35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0894-B7DF-4147-8DF5-1419707D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103-DFBF-4D61-994D-DDBB9C2B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929-B140-4FB8-A1E7-4B0D7BCD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F158-ACFC-47D4-8A6A-D2A5F7B5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788-8FF0-4C61-9848-E60A4001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0AD3-A2B9-4176-9FBE-473D1E89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13E4-F47A-41BA-BF71-E5CCFEE8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7CC-4287-4EA2-87D5-BA807F01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5680" y="-93600"/>
            <a:ext cx="2770920" cy="6950160"/>
            <a:chOff x="-85680" y="-93600"/>
            <a:chExt cx="2770920" cy="6950160"/>
          </a:xfrm>
        </p:grpSpPr>
        <p:sp>
          <p:nvSpPr>
            <p:cNvPr id="1" name="未知"/>
            <p:cNvSpPr/>
            <p:nvPr/>
          </p:nvSpPr>
          <p:spPr>
            <a:xfrm>
              <a:off x="-6480" y="5178600"/>
              <a:ext cx="74844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8760" y="3921840"/>
              <a:ext cx="888840" cy="720360"/>
              <a:chOff x="68760" y="3921840"/>
              <a:chExt cx="888840" cy="720360"/>
            </a:xfrm>
          </p:grpSpPr>
          <p:sp>
            <p:nvSpPr>
              <p:cNvPr id="3" name="未知"/>
              <p:cNvSpPr/>
              <p:nvPr/>
            </p:nvSpPr>
            <p:spPr>
              <a:xfrm flipH="1" rot="14965200">
                <a:off x="118080" y="3943080"/>
                <a:ext cx="22824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未知"/>
              <p:cNvSpPr/>
              <p:nvPr/>
            </p:nvSpPr>
            <p:spPr>
              <a:xfrm flipH="1" rot="14965200">
                <a:off x="277920" y="4310640"/>
                <a:ext cx="389160" cy="220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未知"/>
              <p:cNvSpPr/>
              <p:nvPr/>
            </p:nvSpPr>
            <p:spPr>
              <a:xfrm flipH="1" rot="14965200">
                <a:off x="631080" y="4155120"/>
                <a:ext cx="40572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未知"/>
            <p:cNvSpPr/>
            <p:nvPr/>
          </p:nvSpPr>
          <p:spPr>
            <a:xfrm>
              <a:off x="144000" y="2755800"/>
              <a:ext cx="112644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2601000"/>
              <a:ext cx="2685240" cy="3117600"/>
              <a:chOff x="0" y="2601000"/>
              <a:chExt cx="2685240" cy="3117600"/>
            </a:xfrm>
          </p:grpSpPr>
          <p:sp>
            <p:nvSpPr>
              <p:cNvPr id="8" name="未知"/>
              <p:cNvSpPr/>
              <p:nvPr/>
            </p:nvSpPr>
            <p:spPr>
              <a:xfrm flipH="1" rot="789600">
                <a:off x="3873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未知"/>
              <p:cNvSpPr/>
              <p:nvPr/>
            </p:nvSpPr>
            <p:spPr>
              <a:xfrm flipH="1" rot="789600">
                <a:off x="105480" y="2841840"/>
                <a:ext cx="81540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未知"/>
              <p:cNvSpPr/>
              <p:nvPr/>
            </p:nvSpPr>
            <p:spPr>
              <a:xfrm flipH="1" rot="789600">
                <a:off x="3585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未知"/>
              <p:cNvSpPr/>
              <p:nvPr/>
            </p:nvSpPr>
            <p:spPr>
              <a:xfrm flipH="1" rot="789600">
                <a:off x="883800" y="3792240"/>
                <a:ext cx="26460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未知"/>
              <p:cNvSpPr/>
              <p:nvPr/>
            </p:nvSpPr>
            <p:spPr>
              <a:xfrm flipH="1" rot="789600">
                <a:off x="808920" y="3854520"/>
                <a:ext cx="6480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840" y="4055760"/>
                <a:ext cx="1832400" cy="1662840"/>
                <a:chOff x="852840" y="4055760"/>
                <a:chExt cx="1832400" cy="1662840"/>
              </a:xfrm>
            </p:grpSpPr>
            <p:sp>
              <p:nvSpPr>
                <p:cNvPr id="14" name="未知"/>
                <p:cNvSpPr/>
                <p:nvPr/>
              </p:nvSpPr>
              <p:spPr>
                <a:xfrm flipH="1" rot="7102800">
                  <a:off x="1261800" y="3945960"/>
                  <a:ext cx="474480" cy="1213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未知"/>
                <p:cNvSpPr/>
                <p:nvPr/>
              </p:nvSpPr>
              <p:spPr>
                <a:xfrm flipH="1" rot="7102800">
                  <a:off x="2328120" y="4973760"/>
                  <a:ext cx="108720" cy="4978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未知"/>
                <p:cNvSpPr/>
                <p:nvPr/>
              </p:nvSpPr>
              <p:spPr>
                <a:xfrm flipH="1" rot="7102800">
                  <a:off x="2502000" y="5569560"/>
                  <a:ext cx="198360" cy="83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8720" y="6173640"/>
              <a:ext cx="789840" cy="635040"/>
              <a:chOff x="468720" y="6173640"/>
              <a:chExt cx="789840" cy="635040"/>
            </a:xfrm>
          </p:grpSpPr>
          <p:sp>
            <p:nvSpPr>
              <p:cNvPr id="18" name="未知"/>
              <p:cNvSpPr/>
              <p:nvPr/>
            </p:nvSpPr>
            <p:spPr>
              <a:xfrm rot="6248400">
                <a:off x="1013040" y="6174000"/>
                <a:ext cx="19764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 rot="6248400">
                <a:off x="761400" y="6513840"/>
                <a:ext cx="337320" cy="21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未知"/>
              <p:cNvSpPr/>
              <p:nvPr/>
            </p:nvSpPr>
            <p:spPr>
              <a:xfrm rot="6248400">
                <a:off x="387360" y="6410880"/>
                <a:ext cx="35136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8600" y="1775880"/>
              <a:ext cx="784080" cy="693360"/>
              <a:chOff x="318600" y="1775880"/>
              <a:chExt cx="784080" cy="693360"/>
            </a:xfrm>
          </p:grpSpPr>
          <p:sp>
            <p:nvSpPr>
              <p:cNvPr id="22" name="未知"/>
              <p:cNvSpPr/>
              <p:nvPr/>
            </p:nvSpPr>
            <p:spPr>
              <a:xfrm rot="5002800">
                <a:off x="839160" y="1747080"/>
                <a:ext cx="207360" cy="297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未知"/>
              <p:cNvSpPr/>
              <p:nvPr/>
            </p:nvSpPr>
            <p:spPr>
              <a:xfrm rot="5002800">
                <a:off x="693000" y="2154240"/>
                <a:ext cx="35460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 rot="5002800">
                <a:off x="217440" y="2206080"/>
                <a:ext cx="369360" cy="125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4560" y="0"/>
              <a:ext cx="546120" cy="581400"/>
              <a:chOff x="1294560" y="0"/>
              <a:chExt cx="546120" cy="581400"/>
            </a:xfrm>
          </p:grpSpPr>
          <p:sp>
            <p:nvSpPr>
              <p:cNvPr id="26" name="未知"/>
              <p:cNvSpPr/>
              <p:nvPr/>
            </p:nvSpPr>
            <p:spPr>
              <a:xfrm>
                <a:off x="1294560" y="0"/>
                <a:ext cx="17352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>
                <a:off x="1544040" y="103320"/>
                <a:ext cx="296640" cy="182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未知"/>
              <p:cNvSpPr/>
              <p:nvPr/>
            </p:nvSpPr>
            <p:spPr>
              <a:xfrm>
                <a:off x="1484640" y="489240"/>
                <a:ext cx="30924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未知"/>
            <p:cNvSpPr/>
            <p:nvPr/>
          </p:nvSpPr>
          <p:spPr>
            <a:xfrm>
              <a:off x="139320" y="149400"/>
              <a:ext cx="110880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 rot="828600">
              <a:off x="384840" y="5403600"/>
              <a:ext cx="20916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 rot="828600">
              <a:off x="423360" y="5702040"/>
              <a:ext cx="10440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18720" y="6524640"/>
              <a:ext cx="18684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1080" y="6299280"/>
              <a:ext cx="20592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1080" y="6269040"/>
              <a:ext cx="7416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1080" y="5141880"/>
              <a:ext cx="78840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未知"/>
            <p:cNvSpPr/>
            <p:nvPr/>
          </p:nvSpPr>
          <p:spPr>
            <a:xfrm rot="1584000">
              <a:off x="32400" y="650520"/>
              <a:ext cx="54576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rot="1584000">
              <a:off x="384840" y="1200240"/>
              <a:ext cx="26496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 rot="1584000">
              <a:off x="911880" y="453960"/>
              <a:ext cx="23292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 rot="1584000">
              <a:off x="375480" y="1144440"/>
              <a:ext cx="9792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 rot="1584000">
              <a:off x="929160" y="739440"/>
              <a:ext cx="11376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1080" y="1406520"/>
              <a:ext cx="57132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 rot="1584000">
              <a:off x="89640" y="132840"/>
              <a:ext cx="127548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8B30-31D5-4889-B4CE-6C9FC0A5631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000"/>
              <a:chOff x="5407200" y="63360"/>
              <a:chExt cx="3624480" cy="6129000"/>
            </a:xfrm>
          </p:grpSpPr>
          <p:sp>
            <p:nvSpPr>
              <p:cNvPr id="86" name="未知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 flipV="1" rot="11970000">
                <a:off x="7422120" y="1961280"/>
                <a:ext cx="90612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未知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未知"/>
              <p:cNvSpPr/>
              <p:nvPr/>
            </p:nvSpPr>
            <p:spPr>
              <a:xfrm flipV="1" rot="11970000">
                <a:off x="7252560" y="67572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未知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 flipV="1" rot="11970000">
                <a:off x="5937840" y="2930040"/>
                <a:ext cx="523800" cy="32684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未知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38920" y="1037520"/>
              <a:ext cx="1017360" cy="1262520"/>
              <a:chOff x="4138920" y="1037520"/>
              <a:chExt cx="1017360" cy="1262520"/>
            </a:xfrm>
          </p:grpSpPr>
          <p:sp>
            <p:nvSpPr>
              <p:cNvPr id="100" name="未知"/>
              <p:cNvSpPr/>
              <p:nvPr/>
            </p:nvSpPr>
            <p:spPr>
              <a:xfrm rot="3220200">
                <a:off x="4554720" y="1075680"/>
                <a:ext cx="28692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 rot="3220200">
                <a:off x="4638600" y="1608840"/>
                <a:ext cx="489960" cy="316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未知"/>
              <p:cNvSpPr/>
              <p:nvPr/>
            </p:nvSpPr>
            <p:spPr>
              <a:xfrm rot="3220200">
                <a:off x="4099320" y="1966320"/>
                <a:ext cx="51048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3360" y="297360"/>
              <a:ext cx="889560" cy="832680"/>
              <a:chOff x="5643360" y="297360"/>
              <a:chExt cx="889560" cy="832680"/>
            </a:xfrm>
          </p:grpSpPr>
          <p:sp>
            <p:nvSpPr>
              <p:cNvPr id="104" name="未知"/>
              <p:cNvSpPr/>
              <p:nvPr/>
            </p:nvSpPr>
            <p:spPr>
              <a:xfrm rot="14908200">
                <a:off x="5754600" y="799560"/>
                <a:ext cx="17928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 rot="14908200">
                <a:off x="5704920" y="478800"/>
                <a:ext cx="306360" cy="301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 rot="14908200">
                <a:off x="6243480" y="39708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5080" y="5282280"/>
              <a:ext cx="1061280" cy="834480"/>
              <a:chOff x="955080" y="5282280"/>
              <a:chExt cx="1061280" cy="834480"/>
            </a:xfrm>
          </p:grpSpPr>
          <p:sp>
            <p:nvSpPr>
              <p:cNvPr id="108" name="未知"/>
              <p:cNvSpPr/>
              <p:nvPr/>
            </p:nvSpPr>
            <p:spPr>
              <a:xfrm rot="8524800">
                <a:off x="1698480" y="5550480"/>
                <a:ext cx="25236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 rot="8524800">
                <a:off x="1180800" y="5761080"/>
                <a:ext cx="431280" cy="249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 rot="8524800">
                <a:off x="946080" y="540684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8920" y="431640"/>
              <a:ext cx="1692360" cy="1148040"/>
              <a:chOff x="358920" y="431640"/>
              <a:chExt cx="1692360" cy="1148040"/>
            </a:xfrm>
          </p:grpSpPr>
          <p:sp>
            <p:nvSpPr>
              <p:cNvPr id="112" name="未知"/>
              <p:cNvSpPr/>
              <p:nvPr/>
            </p:nvSpPr>
            <p:spPr>
              <a:xfrm flipH="1" rot="4107000">
                <a:off x="1559520" y="1050120"/>
                <a:ext cx="35748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未知"/>
              <p:cNvSpPr/>
              <p:nvPr/>
            </p:nvSpPr>
            <p:spPr>
              <a:xfrm flipH="1" rot="4107000">
                <a:off x="1005480" y="575280"/>
                <a:ext cx="61056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 flipH="1" rot="4107000">
                <a:off x="261720" y="1090800"/>
                <a:ext cx="63612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840"/>
              <a:ext cx="1157760" cy="1609200"/>
              <a:chOff x="7396560" y="3696840"/>
              <a:chExt cx="1157760" cy="1609200"/>
            </a:xfrm>
          </p:grpSpPr>
          <p:sp>
            <p:nvSpPr>
              <p:cNvPr id="116" name="未知"/>
              <p:cNvSpPr/>
              <p:nvPr/>
            </p:nvSpPr>
            <p:spPr>
              <a:xfrm flipH="1" rot="10015800">
                <a:off x="7451640" y="4741200"/>
                <a:ext cx="35712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未知"/>
              <p:cNvSpPr/>
              <p:nvPr/>
            </p:nvSpPr>
            <p:spPr>
              <a:xfrm flipH="1" rot="10015800">
                <a:off x="7901640" y="4438440"/>
                <a:ext cx="61020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 flipH="1" rot="10015800">
                <a:off x="7594560" y="3765600"/>
                <a:ext cx="63576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未知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DFE9-2717-413E-B54F-D215D852CBF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　　</a:t>
            </a:r>
            <a:r>
              <a:rPr b="1" lang="zh-CN" sz="4000" spc="-1" strike="noStrike">
                <a:solidFill>
                  <a:srgbClr val="006699"/>
                </a:solidFill>
                <a:latin typeface="Verdana"/>
              </a:rPr>
              <a:t>清赵翼有诗：“江山代有才人出，各领风骚数百年。”唐诗过后是宋词，好诗在唐代已被诗人们写尽了，于是宋人就另辟蹊径，使词这种文学形式趋于完善、臻于完美，达到了空前的繁荣，使宋词成为我国文化宝库中又一颗璀璨的明珠。</a:t>
            </a: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864400" y="0"/>
            <a:ext cx="3279600" cy="68277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95280" y="488952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38440" y="204840"/>
            <a:ext cx="601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</a:rPr>
              <a:t>景——寒蝉凄切，对长亭晚，骤雨初歇。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1141560" y="2438280"/>
            <a:ext cx="74869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143000"/>
            <a:ext cx="62485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ff6600"/>
                </a:solidFill>
                <a:latin typeface="Verdana"/>
              </a:rPr>
              <a:t>看似简单写景，好像只在对着长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Verdana"/>
              </a:rPr>
              <a:t>亭的当儿，听到寒蝉在叫，看到骤雨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Verdana"/>
              </a:rPr>
              <a:t>刚停，但其实，不仅声音、形象中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Verdana"/>
              </a:rPr>
              <a:t>异样的情味，连呆对着的长亭也不是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Verdana"/>
              </a:rPr>
              <a:t>单纯的建筑物。时当秋季，景已萧瑟，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Verdana"/>
              </a:rPr>
              <a:t>且值天晚，暮色阴沉，而骤雨滂沱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Verdana"/>
              </a:rPr>
              <a:t>后，继之以寒蝉凄切——词人所见所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Verdana"/>
              </a:rPr>
              <a:t>闻，无处不凄凉！看来这是一个很好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Verdana"/>
              </a:rPr>
              <a:t>开头，起句便给全诗酿造了一种足以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Verdana"/>
              </a:rPr>
              <a:t>触动离情别绪的气氛，给全诗定了凄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Verdana"/>
              </a:rPr>
              <a:t>切的感情基调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914400" y="68580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黑体"/>
                <a:ea typeface="黑体"/>
              </a:rPr>
              <a:t>情—— 都门帐饮无绪，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9900cc"/>
                </a:solidFill>
                <a:latin typeface="黑体"/>
                <a:ea typeface="黑体"/>
              </a:rPr>
              <a:t>留恋处兰舟催发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14400" y="1523880"/>
            <a:ext cx="3505320" cy="0"/>
            <a:chOff x="914400" y="1523880"/>
            <a:chExt cx="3505320" cy="0"/>
          </a:xfrm>
        </p:grpSpPr>
        <p:sp>
          <p:nvSpPr>
            <p:cNvPr id="219" name="Line 5"/>
            <p:cNvSpPr/>
            <p:nvPr/>
          </p:nvSpPr>
          <p:spPr>
            <a:xfrm>
              <a:off x="914400" y="1523880"/>
              <a:ext cx="914400" cy="0"/>
            </a:xfrm>
            <a:prstGeom prst="line">
              <a:avLst/>
            </a:prstGeom>
            <a:ln cap="sq"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3429000" y="1523880"/>
              <a:ext cx="990720" cy="0"/>
            </a:xfrm>
            <a:prstGeom prst="line">
              <a:avLst/>
            </a:prstGeom>
            <a:ln cap="sq"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21" name="Text Box 7"/>
          <p:cNvSpPr/>
          <p:nvPr/>
        </p:nvSpPr>
        <p:spPr>
          <a:xfrm>
            <a:off x="7315200" y="12193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矛盾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矩形 7"/>
          <p:cNvSpPr/>
          <p:nvPr/>
        </p:nvSpPr>
        <p:spPr>
          <a:xfrm>
            <a:off x="4952880" y="1371600"/>
            <a:ext cx="1143000" cy="142920"/>
          </a:xfrm>
          <a:prstGeom prst="rect">
            <a:avLst/>
          </a:prstGeom>
          <a:solidFill>
            <a:srgbClr val="ffa954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>
            <a:off x="5410080" y="2286000"/>
            <a:ext cx="1143000" cy="142920"/>
          </a:xfrm>
          <a:prstGeom prst="rect">
            <a:avLst/>
          </a:prstGeom>
          <a:solidFill>
            <a:srgbClr val="ffa954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24" name="直接箭头连接符 14"/>
          <p:cNvCxnSpPr/>
          <p:nvPr/>
        </p:nvCxnSpPr>
        <p:spPr>
          <a:xfrm>
            <a:off x="6324120" y="990720"/>
            <a:ext cx="786600" cy="357840"/>
          </a:xfrm>
          <a:prstGeom prst="straightConnector1">
            <a:avLst/>
          </a:prstGeom>
          <a:ln w="38160">
            <a:solidFill>
              <a:srgbClr val="e78a2d"/>
            </a:solidFill>
            <a:miter/>
            <a:tailEnd len="med" type="arrow" w="med"/>
          </a:ln>
        </p:spPr>
      </p:cxnSp>
      <p:cxnSp>
        <p:nvCxnSpPr>
          <p:cNvPr id="225" name="直接箭头连接符 20"/>
          <p:cNvCxnSpPr/>
          <p:nvPr/>
        </p:nvCxnSpPr>
        <p:spPr>
          <a:xfrm flipV="1">
            <a:off x="6477120" y="1675800"/>
            <a:ext cx="786240" cy="286200"/>
          </a:xfrm>
          <a:prstGeom prst="straightConnector1">
            <a:avLst/>
          </a:prstGeom>
          <a:ln w="38160">
            <a:solidFill>
              <a:srgbClr val="e78a2d"/>
            </a:solidFill>
            <a:miter/>
            <a:tailEnd len="med" type="arrow" w="med"/>
          </a:ln>
        </p:spPr>
      </p:cxnSp>
      <p:sp>
        <p:nvSpPr>
          <p:cNvPr id="226" name="Text Box 7"/>
          <p:cNvSpPr/>
          <p:nvPr/>
        </p:nvSpPr>
        <p:spPr>
          <a:xfrm>
            <a:off x="2590920" y="281952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6699"/>
                </a:solidFill>
                <a:latin typeface="宋体"/>
              </a:rPr>
              <a:t>恋人在都门外的长亭摆下酒筵给他送别，然而面对美酒佳肴，词人毫无心思，为什么？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590920" y="42670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6699"/>
                </a:solidFill>
                <a:latin typeface="宋体"/>
              </a:rPr>
              <a:t>这七字以精炼之笔刻画了典型环境与典型心理：欲饮无绪，欲留不能，一边是留恋情浓，一边是兰舟催发，这样依依不舍，难舍难分的矛盾何其尖锐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722760" y="0"/>
            <a:ext cx="542124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717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Verdana"/>
              </a:rPr>
              <a:t>情</a:t>
            </a: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——</a:t>
            </a:r>
            <a:r>
              <a:rPr b="0" lang="zh-CN" sz="4000" spc="-1" strike="noStrike">
                <a:solidFill>
                  <a:srgbClr val="ff0066"/>
                </a:solidFill>
                <a:latin typeface="Verdana"/>
              </a:rPr>
              <a:t>执手相看泪眼，</a:t>
            </a:r>
            <a:br>
              <a:rPr sz="4000"/>
            </a:br>
            <a:r>
              <a:rPr b="0" lang="zh-CN" sz="4000" spc="-1" strike="noStrike">
                <a:solidFill>
                  <a:srgbClr val="ff0066"/>
                </a:solidFill>
                <a:latin typeface="Verdana"/>
              </a:rPr>
              <a:t>                    竟无语凝噎。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2401920"/>
            <a:ext cx="5029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两人相对而立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手握手，眼对眼，泪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眼婆娑。这时是“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  <a:ea typeface="汉仪彩云体简"/>
              </a:rPr>
              <a:t>举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Verdana"/>
                <a:ea typeface="汉仪彩云体简"/>
              </a:rPr>
              <a:t>长劳劳，二情同依依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”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是“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  <a:ea typeface="汉仪彩云体简"/>
              </a:rPr>
              <a:t>此时无声胜有声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”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是“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  <a:ea typeface="汉仪彩云体简"/>
              </a:rPr>
              <a:t>相对无言，惟有泪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Verdana"/>
                <a:ea typeface="汉仪彩云体简"/>
              </a:rPr>
              <a:t>千行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”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008080" y="86688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Times New Roman"/>
                <a:ea typeface="隶书"/>
              </a:rPr>
              <a:t>黯然销魂者，唯别而已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213372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剪不断，理还乱，是离愁。别是一般滋味在心头。              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                          ——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李煜《乌夜啼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碧云天，黄花地，西风紧，北雁南飞。晓来谁染霜林醉？总是离人泪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              ——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王实甫《西厢记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长亭送别》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019840" y="0"/>
            <a:ext cx="412416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16760" y="1143000"/>
            <a:ext cx="42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景——念去去，千里烟波，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宋体"/>
              </a:rPr>
              <a:t>                  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暮霭沉沉楚天阔。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18288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79440" y="367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4290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458136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2743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这句词用了什么艺术手法，试作分析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39625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15"/>
                </a:solidFill>
                <a:latin typeface="Times New Roman"/>
              </a:rPr>
              <a:t>――</a:t>
            </a:r>
            <a:r>
              <a:rPr b="1" lang="zh-CN" sz="2800" spc="-1" strike="noStrike">
                <a:solidFill>
                  <a:srgbClr val="002a15"/>
                </a:solidFill>
                <a:latin typeface="Times New Roman"/>
              </a:rPr>
              <a:t>用了“虚景实写”的艺术手法。这两句是词人的内心独白。“念”字告诉读者下面为想像的景物，是虚写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30840" y="3808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词人凝噎在喉的是什么话呢？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4800600" cy="3854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28600" y="152280"/>
            <a:ext cx="891540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情——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多情</a:t>
            </a:r>
            <a:r>
              <a:rPr b="1" lang="zh-CN" sz="48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自古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伤离别，更哪堪冷落</a:t>
            </a:r>
            <a:r>
              <a:rPr b="1" lang="zh-CN" sz="48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清秋节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！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53080" y="2286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触景生情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3276720"/>
            <a:ext cx="3657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却道天凉好个秋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万里悲秋常作客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秋风秋雨愁煞人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自古逢秋悲寂寥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20574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共同感受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普遍情感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21337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自古”说明了什么？为什么清秋节更让人难以承受离别之苦？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715000" y="1143000"/>
            <a:ext cx="3124080" cy="5029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23040" y="1371600"/>
            <a:ext cx="402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方正舒体"/>
              </a:rPr>
              <a:t>今宵酒醒何处？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Times New Roman"/>
                <a:ea typeface="方正舒体"/>
              </a:rPr>
              <a:t>            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方正舒体"/>
              </a:rPr>
              <a:t>杨柳岸晓风残月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2280" y="425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名句赏析——景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327672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00ff"/>
                </a:solidFill>
                <a:latin typeface="宋体"/>
              </a:rPr>
              <a:t>想象画面：一舟临岸，词人酒醒梦回，只见习习晓风吹拂萧萧疏柳，一弯残月高挂梢头。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横卷形 5"/>
          <p:cNvSpPr/>
          <p:nvPr/>
        </p:nvSpPr>
        <p:spPr>
          <a:xfrm>
            <a:off x="428760" y="285840"/>
            <a:ext cx="1428480" cy="1285920"/>
          </a:xfrm>
          <a:prstGeom prst="horizontalScroll">
            <a:avLst>
              <a:gd name="adj" fmla="val 125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酒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138240" y="1905120"/>
            <a:ext cx="923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喜时杜甫说：“白日放歌须纵酒，青春作伴好还乡。”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感慨时曹操说：“对酒当歌，人生几何？”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惜别时王维说：“劝君更进一杯酒，西出阳关无故人。”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愁时李白说：“抽刀断水水更流，举杯消愁愁更愁。”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孤独时李白说：“举杯邀明月，对影成三人。”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思念时苏轼说：“明月几时有，把酒问青天。”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哀伤时李清照说：“三杯两盏淡酒，怎敌他，晚来风急？”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流程图: 资料带 8"/>
          <p:cNvSpPr/>
          <p:nvPr/>
        </p:nvSpPr>
        <p:spPr>
          <a:xfrm>
            <a:off x="1714680" y="5572080"/>
            <a:ext cx="1500120" cy="928800"/>
          </a:xfrm>
          <a:prstGeom prst="flowChartPunchedTap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e90f3e"/>
                </a:solidFill>
                <a:latin typeface="黑体"/>
                <a:ea typeface="黑体"/>
              </a:rPr>
              <a:t>酒醒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右箭头 9"/>
          <p:cNvSpPr/>
          <p:nvPr/>
        </p:nvSpPr>
        <p:spPr>
          <a:xfrm>
            <a:off x="3429000" y="5786280"/>
            <a:ext cx="1071720" cy="35748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流程图: 资料带 10"/>
          <p:cNvSpPr/>
          <p:nvPr/>
        </p:nvSpPr>
        <p:spPr>
          <a:xfrm>
            <a:off x="4643280" y="5500800"/>
            <a:ext cx="1500480" cy="928440"/>
          </a:xfrm>
          <a:prstGeom prst="flowChartPunchedTap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e90f3e"/>
                </a:solidFill>
                <a:latin typeface="黑体"/>
                <a:ea typeface="黑体"/>
              </a:rPr>
              <a:t>愁来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流程图: 资料带 8"/>
          <p:cNvSpPr/>
          <p:nvPr/>
        </p:nvSpPr>
        <p:spPr>
          <a:xfrm>
            <a:off x="1981080" y="5105520"/>
            <a:ext cx="1500480" cy="928440"/>
          </a:xfrm>
          <a:prstGeom prst="flowChartPunchedTap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e90f3e"/>
                </a:solidFill>
                <a:latin typeface="黑体"/>
                <a:ea typeface="黑体"/>
              </a:rPr>
              <a:t>酒醒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右箭头 9"/>
          <p:cNvSpPr/>
          <p:nvPr/>
        </p:nvSpPr>
        <p:spPr>
          <a:xfrm>
            <a:off x="4038480" y="5486400"/>
            <a:ext cx="107172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流程图: 资料带 10"/>
          <p:cNvSpPr/>
          <p:nvPr/>
        </p:nvSpPr>
        <p:spPr>
          <a:xfrm>
            <a:off x="5562720" y="5105520"/>
            <a:ext cx="1500120" cy="928440"/>
          </a:xfrm>
          <a:prstGeom prst="flowChartPunchedTap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e90f3e"/>
                </a:solidFill>
                <a:latin typeface="黑体"/>
                <a:ea typeface="黑体"/>
              </a:rPr>
              <a:t>愁来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50920" y="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词的有关知识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37160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6699"/>
                </a:solidFill>
                <a:latin typeface="Arial"/>
              </a:rPr>
              <a:t>词的起源：兴起于隋唐，盛行于宋，并在宋代发展到高峰。词即歌词，指可以和乐歌唱的诗体，即词是诗的一种，所以又称“长短句”、“诗余”、“曲子词”、“歌词”等。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312444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763880" y="380880"/>
            <a:ext cx="25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Times New Roman"/>
                <a:ea typeface="方正舒体"/>
              </a:rPr>
              <a:t> 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方正舒体"/>
              </a:rPr>
              <a:t>杨柳岸晓风残月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37339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99ff"/>
                </a:solidFill>
                <a:latin typeface="宋体"/>
              </a:rPr>
              <a:t>、把杨柳、晓风、残月这三件最能触动离愁的事物集中成为一幅鲜明的画面。——用几个名词连缀而成，给读者留下无尽的想象空间，很有韵味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43600" y="5638680"/>
            <a:ext cx="3200400" cy="9471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汉仪中隶书简"/>
              </a:rPr>
              <a:t>枯藤老树昏鸦，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汉仪中隶书简"/>
              </a:rPr>
              <a:t>小桥流水人家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11430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99ff"/>
                </a:solidFill>
                <a:latin typeface="宋体"/>
              </a:rPr>
              <a:t>、折柳送行，取其依依之态，另柳——留谐音，有挽留之意。所以古人写离别之情，往往要写到杨柳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049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婉约派的代表名句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2590920"/>
            <a:ext cx="3809880" cy="9471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汉仪中隶书简"/>
              </a:rPr>
              <a:t>昔我往矣，杨柳依依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汉仪中隶书简"/>
              </a:rPr>
              <a:t>今我来思，雨雪菲菲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 2" descr="QQ截图未命名.jpg"/>
          <p:cNvPicPr/>
          <p:nvPr/>
        </p:nvPicPr>
        <p:blipFill>
          <a:blip r:embed="rId1"/>
          <a:stretch/>
        </p:blipFill>
        <p:spPr>
          <a:xfrm>
            <a:off x="142920" y="142920"/>
            <a:ext cx="4286160" cy="650088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4496400" y="285840"/>
            <a:ext cx="3946680" cy="5805000"/>
            <a:chOff x="4496400" y="285840"/>
            <a:chExt cx="3946680" cy="5805000"/>
          </a:xfrm>
        </p:grpSpPr>
        <p:sp>
          <p:nvSpPr>
            <p:cNvPr id="271" name="Text Box 4"/>
            <p:cNvSpPr/>
            <p:nvPr/>
          </p:nvSpPr>
          <p:spPr>
            <a:xfrm>
              <a:off x="6905880" y="285840"/>
              <a:ext cx="789840" cy="5805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应是良辰好景虚设。</a:t>
              </a:r>
              <a:endParaRPr b="0" lang="en-US" sz="4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4496400" y="285840"/>
              <a:ext cx="3946680" cy="5063400"/>
              <a:chOff x="4496400" y="285840"/>
              <a:chExt cx="3946680" cy="5063400"/>
            </a:xfrm>
          </p:grpSpPr>
          <p:sp>
            <p:nvSpPr>
              <p:cNvPr id="273" name="Text Box 6"/>
              <p:cNvSpPr/>
              <p:nvPr/>
            </p:nvSpPr>
            <p:spPr>
              <a:xfrm>
                <a:off x="7653240" y="285840"/>
                <a:ext cx="789840" cy="506340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99"/>
                    </a:solidFill>
                    <a:latin typeface="Times New Roman"/>
                    <a:ea typeface="隶书"/>
                  </a:rPr>
                  <a:t>此去经年，</a:t>
                </a:r>
                <a:endParaRPr b="0" lang="en-US" sz="4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4" name="Text Box 7"/>
              <p:cNvSpPr/>
              <p:nvPr/>
            </p:nvSpPr>
            <p:spPr>
              <a:xfrm>
                <a:off x="5465520" y="285840"/>
                <a:ext cx="1399320" cy="481644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99"/>
                    </a:solidFill>
                    <a:latin typeface="Times New Roman"/>
                    <a:ea typeface="隶书"/>
                  </a:rPr>
                  <a:t>便纵有千种风情，</a:t>
                </a:r>
                <a:endParaRPr b="0" lang="en-US" sz="4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5" name="Text Box 8"/>
              <p:cNvSpPr/>
              <p:nvPr/>
            </p:nvSpPr>
            <p:spPr>
              <a:xfrm>
                <a:off x="4496400" y="285840"/>
                <a:ext cx="1399320" cy="35812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99"/>
                    </a:solidFill>
                    <a:latin typeface="Times New Roman"/>
                    <a:ea typeface="隶书"/>
                  </a:rPr>
                  <a:t>更与何人说？</a:t>
                </a:r>
                <a:endParaRPr b="0" lang="en-US" sz="4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"/>
          <p:cNvSpPr/>
          <p:nvPr/>
        </p:nvSpPr>
        <p:spPr>
          <a:xfrm>
            <a:off x="4957560" y="4114800"/>
            <a:ext cx="7290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——</a:t>
            </a:r>
            <a:r>
              <a:rPr b="0" lang="zh-CN" sz="3600" spc="-1" strike="noStrike">
                <a:solidFill>
                  <a:srgbClr val="000099"/>
                </a:solidFill>
                <a:latin typeface="Verdana"/>
              </a:rPr>
              <a:t>情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6"/>
          <p:cNvSpPr/>
          <p:nvPr/>
        </p:nvSpPr>
        <p:spPr>
          <a:xfrm>
            <a:off x="611280" y="260280"/>
            <a:ext cx="6629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华文新魏"/>
              </a:rPr>
              <a:t>上阕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离别时难分难舍的心情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寒蝉      长亭      骤雨—环境悲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执手相看    无语凝噎—难分难舍  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千里烟波    楚天辽阔—惆怅伤感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（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华文新魏"/>
              </a:rPr>
              <a:t>融情入景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华文新魏"/>
              </a:rPr>
              <a:t>下阕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想象中的别后情景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伤离别   清秋冷落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—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愁意浓浓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杨柳岸    晓风残月 — 酒醒伤情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好景虚设  风情难言 — 惨不成欢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（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华文新魏"/>
              </a:rPr>
              <a:t>以情带景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1219320" y="55897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Arial"/>
                <a:ea typeface="隶书"/>
              </a:rPr>
              <a:t>情景交融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隶书"/>
              </a:rPr>
              <a:t>   </a:t>
            </a:r>
            <a:r>
              <a:rPr b="1" lang="zh-CN" sz="4400" spc="-1" strike="noStrike">
                <a:solidFill>
                  <a:srgbClr val="00ffcc"/>
                </a:solidFill>
                <a:latin typeface="Arial"/>
                <a:ea typeface="隶书"/>
              </a:rPr>
              <a:t>虚实相生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隶书"/>
              </a:rPr>
              <a:t>　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7643880" y="1428840"/>
            <a:ext cx="696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Arial"/>
                <a:ea typeface="华文新魏"/>
              </a:rPr>
              <a:t>伤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Arial"/>
                <a:ea typeface="华文新魏"/>
              </a:rPr>
              <a:t>离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Arial"/>
                <a:ea typeface="华文新魏"/>
              </a:rPr>
              <a:t>别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hammer.wav"/>
      </p:stSnd>
    </p:sndAc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5092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685800"/>
            <a:ext cx="9144000" cy="15840"/>
          </a:xfrm>
          <a:prstGeom prst="rect">
            <a:avLst/>
          </a:prstGeom>
          <a:solidFill>
            <a:srgbClr val="808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37840" y="1295280"/>
            <a:ext cx="5960880" cy="3935880"/>
            <a:chOff x="537840" y="1295280"/>
            <a:chExt cx="5960880" cy="3935880"/>
          </a:xfrm>
        </p:grpSpPr>
        <p:sp>
          <p:nvSpPr>
            <p:cNvPr id="174" name=""/>
            <p:cNvSpPr/>
            <p:nvPr/>
          </p:nvSpPr>
          <p:spPr>
            <a:xfrm>
              <a:off x="537840" y="1676520"/>
              <a:ext cx="78984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99"/>
                  </a:solidFill>
                  <a:latin typeface="Times New Roman"/>
                  <a:ea typeface="方正姚体"/>
                </a:rPr>
                <a:t>词的分类</a:t>
              </a:r>
              <a:endParaRPr b="0" lang="en-US" sz="4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720" y="1846080"/>
              <a:ext cx="292680" cy="2883240"/>
            </a:xfrm>
            <a:custGeom>
              <a:avLst/>
              <a:gdLst>
                <a:gd name="textAreaLeft" fmla="*/ 187200 w 292680"/>
                <a:gd name="textAreaRight" fmla="*/ 293040 w 292680"/>
                <a:gd name="textAreaTop" fmla="*/ 74880 h 2883240"/>
                <a:gd name="textAreaBottom" fmla="*/ 2808360 h 288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64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71000" y="188712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按长短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62680" y="1605600"/>
              <a:ext cx="73080" cy="119520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30960 h 1195200"/>
                <a:gd name="textAreaBottom" fmla="*/ 1164240 h 119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64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96000" y="1295280"/>
              <a:ext cx="250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小令：</a:t>
              </a:r>
              <a:r>
                <a:rPr b="1" lang="en-US" sz="36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58</a:t>
              </a: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字以内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13840" y="1887120"/>
              <a:ext cx="256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中调：</a:t>
              </a:r>
              <a:r>
                <a:rPr b="1" lang="en-US" sz="36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59-90</a:t>
              </a: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字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96000" y="2449800"/>
              <a:ext cx="250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长调：</a:t>
              </a:r>
              <a:r>
                <a:rPr b="1" lang="en-US" sz="36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90</a:t>
              </a: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字以上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71000" y="31824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按段落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12760" y="3182400"/>
              <a:ext cx="80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单调、双调、三叠、四叠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44440" y="43484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按风格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1240" y="39970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豪放派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01240" y="458856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婉约派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62680" y="4166640"/>
              <a:ext cx="73080" cy="91404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23760 h 914040"/>
                <a:gd name="textAreaBottom" fmla="*/ 89028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64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-25092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80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Verdana"/>
              </a:rPr>
              <a:t>风格比较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1371600"/>
            <a:ext cx="19810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Arial"/>
              </a:rPr>
              <a:t>豪放派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Arial"/>
              </a:rPr>
              <a:t>婉约派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3352680"/>
            <a:ext cx="65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题材狭窄</a:t>
            </a:r>
            <a:r>
              <a:rPr b="0" lang="en-US" sz="3600" spc="-1" strike="noStrike">
                <a:solidFill>
                  <a:srgbClr val="006699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多抒情</a:t>
            </a:r>
            <a:r>
              <a:rPr b="0" lang="en-US" sz="3600" spc="-1" strike="noStrike">
                <a:solidFill>
                  <a:srgbClr val="006699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婉约缠绵细腻</a:t>
            </a:r>
            <a:r>
              <a:rPr b="0" lang="en-US" sz="3600" spc="-1" strike="noStrike">
                <a:solidFill>
                  <a:srgbClr val="006699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语言含蓄</a:t>
            </a:r>
            <a:r>
              <a:rPr b="0" lang="en-US" sz="3600" spc="-1" strike="noStrike">
                <a:solidFill>
                  <a:srgbClr val="006699"/>
                </a:solidFill>
                <a:latin typeface="宋体"/>
              </a:rPr>
              <a:t>, </a:t>
            </a: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多写个人遭遇或者男女恋情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114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题材广泛</a:t>
            </a:r>
            <a:r>
              <a:rPr b="0" lang="en-US" sz="3600" spc="-1" strike="noStrike">
                <a:solidFill>
                  <a:srgbClr val="006699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内容丰富</a:t>
            </a:r>
            <a:r>
              <a:rPr b="0" lang="en-US" sz="3600" spc="-1" strike="noStrike">
                <a:solidFill>
                  <a:srgbClr val="006699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气象宏大意境雄浑</a:t>
            </a:r>
            <a:r>
              <a:rPr b="0" lang="en-US" sz="3600" spc="-1" strike="noStrike">
                <a:solidFill>
                  <a:srgbClr val="006699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抒发豪情壮志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743200" y="2286000"/>
            <a:ext cx="3657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苏轼　辛弃疾</a:t>
            </a:r>
            <a:endParaRPr b="0" lang="en-US" sz="1800" spc="-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743200" y="5105520"/>
            <a:ext cx="3657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柳永　李清照</a:t>
            </a:r>
            <a:endParaRPr b="0" lang="en-US" sz="1800" spc="-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6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6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宋体"/>
              </a:rPr>
              <a:t>柳永</a:t>
            </a:r>
            <a:r>
              <a:rPr b="0" lang="zh-CN" sz="2800" spc="-1" strike="noStrike">
                <a:solidFill>
                  <a:srgbClr val="006699"/>
                </a:solidFill>
                <a:latin typeface="宋体"/>
              </a:rPr>
              <a:t>  </a:t>
            </a:r>
            <a:r>
              <a:rPr b="1" lang="zh-CN" sz="2800" spc="-1" strike="noStrike">
                <a:solidFill>
                  <a:srgbClr val="006699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99"/>
                </a:solidFill>
                <a:latin typeface="宋体"/>
              </a:rPr>
              <a:t>约</a:t>
            </a:r>
            <a:r>
              <a:rPr b="1" lang="zh-CN" sz="2800" spc="-1" strike="noStrike">
                <a:solidFill>
                  <a:srgbClr val="006699"/>
                </a:solidFill>
                <a:latin typeface="宋体"/>
              </a:rPr>
              <a:t>980--</a:t>
            </a:r>
            <a:r>
              <a:rPr b="1" lang="zh-CN" sz="2800" spc="-1" strike="noStrike">
                <a:solidFill>
                  <a:srgbClr val="006699"/>
                </a:solidFill>
                <a:latin typeface="宋体"/>
              </a:rPr>
              <a:t>约</a:t>
            </a:r>
            <a:r>
              <a:rPr b="1" lang="zh-CN" sz="2800" spc="-1" strike="noStrike">
                <a:solidFill>
                  <a:srgbClr val="006699"/>
                </a:solidFill>
                <a:latin typeface="宋体"/>
              </a:rPr>
              <a:t>1053</a:t>
            </a:r>
            <a:r>
              <a:rPr b="1" lang="zh-CN" sz="2800" spc="-1" strike="noStrike">
                <a:solidFill>
                  <a:srgbClr val="006699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006699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6699"/>
                </a:solidFill>
                <a:latin typeface="宋体"/>
              </a:rPr>
              <a:t>，福建崇安人，原名三变，排行第七，世称柳七。少年时到汴京应试，狂放不羁，由于擅长词曲，熟悉了许多歌妓，经常流连于秦楼楚馆，为她们填词作曲，表现了一种浪子作风。还说“忍把浮名，换了浅斟低唱”。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当时有人向仁宗举荐他，但仁宗闻其名说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：“此人任从风前月下浅斟低唱，岂可令仕宦！”“何用浮名，且填词去！”遂落第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柳永在受了这种打击后，别无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出路，只好以玩笑的态度，自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称“奉旨填词柳三变”，在汴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京、苏州、杭州一带过着流浪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的生活。大约在少年时的“怪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胆狂情”逐渐消退时，才改名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柳永，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54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岁方考取进士，做过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几任小官。晚年客死襄阳，家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无余财，群妓合金葬之南外 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4343400" cy="4106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11736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隶书"/>
                <a:ea typeface="隶书"/>
              </a:rPr>
              <a:t>   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柳永才情卓著，但一生仕途坎坷，在北宋著名词人中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，他的官位最低，但在词史上却占有重要地位。他是北宋第一个专力写词的作者，也是第一个大量写作慢词的词人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。他的词在当时便为人传唱，据说“凡有井水处，即能歌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柳词”，他精通音律，能自制新曲，变旧声为新声，在唐五代小令的基础上创制了大量适合于歌唱的慢词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                    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柳永在与歌妓一起生活中得到了感情上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              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的慰藉，同时他深深了解歌伎们的生活，同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              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情她们的不幸遭遇。所以他的作品，很多是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              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反映同她们在一起的悲欢离合，感情真挚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                                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《雨霖铃》便是其中的一首，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                           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这首词写的是他离开都城汴京时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                           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与一位红颜知已缠绵悱恻、哀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                           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动人的别离情景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           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3366"/>
                </a:solidFill>
                <a:latin typeface="Times New Roman"/>
                <a:ea typeface="隶书"/>
              </a:rPr>
              <a:t>解    题</a:t>
            </a:r>
            <a:r>
              <a:rPr b="0" lang="en-US" sz="54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057400"/>
            <a:ext cx="8534520" cy="334368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3300"/>
                </a:solidFill>
                <a:latin typeface="宋体"/>
              </a:rPr>
              <a:t>《雨霖铃》词牌名，也写作《雨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宋体"/>
              </a:rPr>
              <a:t>淋铃》。此曲就是柳永取唐时旧曲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宋体"/>
              </a:rPr>
              <a:t>翻制而成。相传，唐玄宗入蜀时因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宋体"/>
              </a:rPr>
              <a:t>在雨中闻铃声而思念杨贵妃，故作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宋体"/>
              </a:rPr>
              <a:t>此曲。曲调自身就具有</a:t>
            </a: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哀伤</a:t>
            </a:r>
            <a:r>
              <a:rPr b="1" lang="zh-CN" sz="4000" spc="-1" strike="noStrike">
                <a:solidFill>
                  <a:srgbClr val="003300"/>
                </a:solidFill>
                <a:latin typeface="宋体"/>
              </a:rPr>
              <a:t>的成分。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60840" cy="2971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093080" y="692280"/>
            <a:ext cx="165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9999"/>
                </a:solidFill>
                <a:latin typeface="Times New Roman"/>
                <a:ea typeface="隶书"/>
              </a:rPr>
              <a:t>雨 霖 铃</a:t>
            </a:r>
            <a:endParaRPr b="0" lang="en-US" sz="9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160680" y="2708280"/>
            <a:ext cx="911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Times New Roman"/>
                <a:ea typeface="隶书"/>
              </a:rPr>
              <a:t>柳永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340000" y="1557360"/>
            <a:ext cx="3492360" cy="3933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18920" y="3427920"/>
            <a:ext cx="103356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 rot="5400000">
            <a:off x="-265680" y="4456800"/>
            <a:ext cx="274140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请听朗读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2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说说作者是如何通过写景（选择什么意象）来准确传情的。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意象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宋体"/>
              </a:rPr>
              <a:t>蝉、长亭、雨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422"/>
                </a:solidFill>
                <a:latin typeface="宋体"/>
              </a:rPr>
              <a:t>作用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宋体"/>
              </a:rPr>
              <a:t>渲染凄清意境，烘托人物感情。</a:t>
            </a:r>
            <a:r>
              <a:rPr b="0" lang="zh-CN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微软用户</cp:lastModifiedBy>
  <dcterms:modified xsi:type="dcterms:W3CDTF">2010-09-13T01:43:4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  <property fmtid="{D5CDD505-2E9C-101B-9397-08002B2CF9AE}" pid="3" name="Version">
    <vt:r8>1</vt:r8>
  </property>
</Properties>
</file>