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418-F8E6-414B-9199-CEFA2C38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C91-26BB-4CB7-8756-23B760D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BDA-55F8-4811-8DA2-1436A33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D7B-154F-4DCE-A305-7FBD6D3B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DFB5-6CA1-4A87-A0CF-352DABB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2A68-797C-40A5-BD9E-4B65015E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5084-00E5-46C9-9F80-C32F1ED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A23B-D71E-48D2-B578-2D99B819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F946-0A0F-4811-83FC-8C576DD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64FD-287A-4ECE-B361-95E4A617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468-BB2E-4F5F-8428-EBDEFB6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3CE-3347-4BF3-A89B-98E438B2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5580-EF89-4E0C-9210-C77E403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6307-9A0A-489A-9722-113C821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E96A-0819-4124-AA57-D9EF8658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A831-4D94-4F6C-A5E5-5BCF248E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EA65-FE38-4F1B-94E4-AAD1CBE3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95E-4E5C-4B24-8C59-021AA2E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75A-6BE7-498B-A123-3D26028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045-1C5C-489C-9C51-3792F5F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9E8-46C8-4A0D-A506-967EBD74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41F-61BC-4E64-B091-D8776CE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85E-3BC2-4958-9C3E-C323067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5A7-343C-4D94-8E02-710230C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86BC-3CAB-44EF-BE46-256330810C9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EB3-5110-42F2-838F-138BFBC30CA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55240" y="549360"/>
            <a:ext cx="10947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雪峰体简"/>
              </a:rPr>
              <a:t>窦娥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668160"/>
            <a:ext cx="831708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杂剧角色大致可分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末、旦、净、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四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男角，男主角叫正末，还有副末、冲末、大末、二末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女角，女主角叫正旦，还有贴旦、花旦、老旦、小旦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多扮刚勇人物或喜剧角色，有净、副净、二净之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杂角，如孤（官员）、祗从（侍从）、孛老（老头）、卜儿（老妇）、徕儿（小孩）、细酸（书生）、邦老（盗贼流氓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0"/>
            <a:ext cx="2871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杂剧的角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160"/>
            <a:ext cx="77004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体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-27000"/>
            <a:ext cx="9144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时代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元王朝实行民族压迫政策，把全国人民划分为四个等级：第一等是蒙古人；第二等叫色目人，也就是西域各族和西夏人；第三等叫汉人，就是原来在金朝统治下的汉人、契丹、女真等族人；第四等叫南人，汉人和南人受到百般歧视。在残酷的阶级压迫和民族压迫下，各族劳动人民都过着悲惨的日子。贪污横行，冤案多得数也数不清。元世祖死后，元成宗时期，这种贪赃枉法的情况越来越严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Verdana"/>
              </a:rPr>
              <a:t>内容的大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窦娥自幼丧母，结婚后不久，丈夫病故，两代孀居，婆媳两人相依为命，生活十分贫苦。一天，蔡婆去找赛芦医索债，赛芦医谋财害命，蔡婆被当地恶棍张驴儿所救。从此，张驴儿仗着自、己救了蔡婆一家人，持恩逼婚，要蔡家婆媳坐堂招婚。蔡家婆媳不肯，张驴儿便想毒死蔡婆，好霸占美貌弱小的窦娥。不料，他准备的毒药误被其父饮下身亡</a:t>
            </a:r>
            <a:r>
              <a:rPr b="0" lang="zh-CN" sz="34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蔡婆为了免除灾祸，给了张驴儿十两纹银，让他买棺葬父。张驴儿却以这十两纹银为证据，讹诈蔡婆害死了自己的父亲，他买通当地县令，对蔡婆横施酷刑。窦娥怕婆婆年老体弱，经不起折磨，只得含冤忍痛自己承担，被判处死刑。窦娥死后，应其誓言，血溅素练，三伏时节瑞雪纷飞，楚州地面干旱三年。六年后，窦娥的父亲窦天章金榜提名，考取了状元，路过山阳。当日深夜，他正在审阅案卷，忽然见到女儿窦娥前来，求父亲代女儿伸冤昭雪。第二天，窦天章开堂审案，终于使冤案大白。结果，张驴儿和县令被判处死刑，赛芦医被发配充军，窦娥的冤案终于得以昭雪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《端正好》表现了窦娥怎样的思想感情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ffffff"/>
                </a:solidFill>
                <a:uFillTx/>
                <a:latin typeface="Verdana"/>
              </a:rPr>
              <a:t>表现了窦娥满腹冤屈与怨恨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引用“盗跖、颜渊”的典故有何作用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ffffff"/>
                </a:solidFill>
                <a:uFillTx/>
                <a:latin typeface="Verdana"/>
              </a:rPr>
              <a:t>这里是用以指责天地好坏不分，黑白颠倒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概括地说，《滚绣球》一曲表达了怎样的思想感情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8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8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8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既表达了对天地不公的不满，又表现了主人公的反抗精神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窦娥是被昏官屈判死罪的，她为何在《滚绣球》一曲中指责天地鬼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57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中宋"/>
              </a:rPr>
              <a:t>窦娥受神权思想影响，开始也相信“青天大老爷”能主持正义。但在残酷的现实面前，她觉醒过来了。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中宋"/>
              </a:rPr>
              <a:t>窦娥对神权的大胆谴责，实质上是对封建统治的强烈控诉和根本否定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中宋"/>
              </a:rPr>
              <a:t>。反映了女主人公的觉醒意识和反抗精神，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中宋"/>
              </a:rPr>
              <a:t>也折射出当时广大人民的反抗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143000"/>
            <a:ext cx="8610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18960" y="2127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在押赴刑场的路上，窦娥要求刽子手走后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不走前街，这一细节刻画对塑造窦娥形象和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主题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86960" y="2279520"/>
            <a:ext cx="578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自己已走在通向死亡的路上，想到的还是如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不使年迈孤寂的婆婆伤心，这是何等的善良啊！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剧作家越是刻画她的善良，也就越发显出其冤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她的抗争与反抗也就越发令人同情。因此，这一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节的描写不仅使窦娥这个形象更其丰满动人，也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剧作对封建社会的批判更为有力和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638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鲁迅：悲剧将有价值的东西毁灭给人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窦娥临死前反复叮嘱婆婆要祭奠她，是出于怎样的思想感情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8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这正是体现窦娥难以舍别婆婆，表现了她对婆婆的挂念；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安排婆婆做这些事，是让婆婆有所寄托，以免婆婆孤独痛苦或生轻生之念；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可以增强悲剧气氛；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白发人送黑发人，白发人祭奠黑发人，更加突出社会黑暗，无公道可言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0"/>
            <a:ext cx="4149720" cy="570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994280" y="0"/>
            <a:ext cx="4149720" cy="570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49236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45000" y="557856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797280" y="557856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161928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536400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7238880" y="5562720"/>
            <a:ext cx="1905120" cy="129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600200"/>
            <a:ext cx="9144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一、介绍关汉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关汉卿，号已斋叟，金末元初大都（现北京）人。元代杂剧的代表作家，也是我国戏剧史上最早也最伟大的戏剧作家。他与郑光祖、白朴、马致远齐名，被称为“元曲四大家”。元代的阶级矛盾和民族矛盾十分尖锐，关汉卿不满社会现实，不仅写作剧本，有时还登台演唱，借杂剧来揭露黑暗现实，寄托自己的社会理想。他一生创作杂剧有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60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多部，但大都散失，现仅存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部。《窦娥冤》《赵盼儿风月救风尘》《单刀会》等流传很广。其中的《窦娥冤》是我国十大古典悲剧之一。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1956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年他的名字被列入世界文化名人之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49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读课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P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zh-CN" sz="4300" spc="-1" strike="noStrike">
                <a:solidFill>
                  <a:srgbClr val="ffffff"/>
                </a:solidFill>
                <a:latin typeface="Verdana"/>
              </a:rPr>
              <a:t>无头愿”是什么意思？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Verdana"/>
              </a:rPr>
              <a:t>意思是说自己的誓愿无根无据，但正可以表明其冤情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分析窦娥临刑时发出的三桩誓愿，说明她所希望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905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  <a:ea typeface="华文中宋"/>
              </a:rPr>
              <a:t>第一个誓愿是血溅白练：她希望刑场上的人们能立刻了解她的冤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4290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  <a:ea typeface="华文中宋"/>
              </a:rPr>
              <a:t>第二个誓愿是六月飞雪：她希望自己的冤屈会在上天得到反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4197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  <a:ea typeface="华文中宋"/>
              </a:rPr>
              <a:t>第三个誓愿是亢旱三年；她不仅希望个人的冤屈得到申张，而且希望上天能够惩治邪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87960" y="304920"/>
            <a:ext cx="55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她的三桩誓愿与第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层对天地的指责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关系呢？是否矛盾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7336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Tahoma"/>
                <a:ea typeface="华文中宋"/>
              </a:rPr>
              <a:t>这显然是矛盾的。可见，窦娥诉冤过程中对天的怀疑和依赖是始终交织在一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ahoma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Tahoma"/>
                <a:ea typeface="华文中宋"/>
              </a:rPr>
              <a:t>一方面，窦娥指天斥地从根本上批判封建统治阶级，表达自己变革现实的愿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ahoma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Tahoma"/>
                <a:ea typeface="华文中宋"/>
              </a:rPr>
              <a:t>另一方面，又不能从根本上提出救民于水火的办法，只能靠天地动容来昭雪窦娥的冤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00"/>
                </a:solidFill>
                <a:latin typeface="Verdana"/>
                <a:ea typeface="仿宋_GB2312"/>
              </a:rPr>
              <a:t>1</a:t>
            </a:r>
            <a:r>
              <a:rPr b="0" lang="zh-CN" sz="4300" spc="-1" strike="noStrike">
                <a:solidFill>
                  <a:srgbClr val="ffff00"/>
                </a:solidFill>
                <a:latin typeface="Verdana"/>
                <a:ea typeface="仿宋_GB2312"/>
              </a:rPr>
              <a:t>、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Times New Roman"/>
              </a:rPr>
              <a:t>窦娥是被昏官屈判死罪的，她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</a:rPr>
              <a:t>临死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Times New Roman"/>
              </a:rPr>
              <a:t>发下三大奇愿，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</a:rPr>
              <a:t>这是不是封建迷信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明确</a:t>
            </a: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: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这不是封建迷信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2</a:t>
            </a: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、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</a:rPr>
              <a:t>这三桩誓愿的实现采用了什么手法？说说这种手法的艺术效果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  </a:t>
            </a: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明确</a:t>
            </a: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: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浪漫主义手法；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Verdana"/>
              </a:rPr>
              <a:t>既能证明窦娥冤情实在是真，有能增强悲剧气氛。从观众来看，符合一般民众善恶有报的心理，反映了人民伸张正义、惩治邪恶的愿望，能引起观众更多的共鸣；也表现了作者鲜明的爱憎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Verdana"/>
              </a:rPr>
              <a:t>监斩官说：“这等三伏天道，你便有冲天的怨气，也召不得一片雪来……”这一说在文中起何作用？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9720" y="2758680"/>
            <a:ext cx="7554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8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Verdana"/>
              </a:rPr>
              <a:t>（提示：反衬窦娥的确冤情深重，怨气冲天。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808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剧作家为什么要在这折戏的结尾安排“三大奇愿”这样的情节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4464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华文中宋"/>
              </a:rPr>
              <a:t>这三愿充分揭露了当时社会官吏昏聩，法制腐败，人民蒙受奇冤而又呼告无门的真实情况。它着力表现主人公至死不屈的斗争精神，这种精神甚至产生了感动天地的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华文中宋"/>
              </a:rPr>
              <a:t>三桩奇愿充分体现了人民伸张人间正义，杀尽贪官污吏，洗雪冤屈的良好意志与愿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07640" y="469800"/>
            <a:ext cx="571572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窦娥的悲剧的根源是什么？反映的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一种什么样的社会现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3357720"/>
            <a:ext cx="8353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ahoma"/>
                <a:ea typeface="华文中宋"/>
              </a:rPr>
              <a:t>这都是官吏无心正法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ahoma"/>
                <a:ea typeface="华文中宋"/>
              </a:rPr>
              <a:t>     </a:t>
            </a:r>
            <a:r>
              <a:rPr b="1" lang="zh-CN" sz="4800" spc="-1" strike="noStrike">
                <a:solidFill>
                  <a:srgbClr val="ffff99"/>
                </a:solidFill>
                <a:latin typeface="Tahoma"/>
                <a:ea typeface="华文中宋"/>
              </a:rPr>
              <a:t>使百姓有口难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15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00"/>
                </a:solidFill>
                <a:latin typeface="Verdana"/>
                <a:ea typeface="仿宋_GB2312"/>
              </a:rPr>
              <a:t>窦娥的人物形象：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窦娥是一个饱受封建压迫与摧残的</a:t>
            </a:r>
            <a:r>
              <a:rPr b="1" lang="zh-CN" sz="4300" spc="-1" strike="noStrike" u="sng">
                <a:solidFill>
                  <a:srgbClr val="ffffff"/>
                </a:solidFill>
                <a:uFillTx/>
                <a:latin typeface="Verdana"/>
                <a:ea typeface="仿宋_GB2312"/>
              </a:rPr>
              <a:t>充满反抗精神的劳动妇女的形象。</a:t>
            </a:r>
            <a:r>
              <a:rPr b="1" lang="zh-CN" sz="4300" spc="-1" strike="noStrike">
                <a:solidFill>
                  <a:srgbClr val="ffffff"/>
                </a:solidFill>
                <a:latin typeface="Verdana"/>
                <a:ea typeface="仿宋_GB2312"/>
              </a:rPr>
              <a:t>她善良勤劳、孝顺贤惠，同时又刚毅顽强，敢于与恶势力斗争到底。她生于严酷的腐败的封建统治之下，注定要走向悲剧的结局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概括主题：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窦娥冤》是我国十大古典悲剧之一。作者通过窦娥蒙受的千古奇冤，揭露了封建社会的黑暗，统治阶级的昏庸残暴，歌颂了窦娥的美好心灵和反抗精神。窦娥的形象壮美动人，她的悲剧性格，具有深刻的社会意义和强烈的感染力量。</a:t>
            </a:r>
            <a:r>
              <a:rPr b="1" lang="zh-CN" sz="3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Verdana"/>
              </a:rPr>
              <a:t>艺术特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作品在艺术上，体现出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Verdana"/>
              </a:rPr>
              <a:t>现实主义与浪漫主义风格的融合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作品用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Verdana"/>
              </a:rPr>
              <a:t>丰富的想像和大胆的夸张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。设计超现实的情节，显示出正义的强大力量，寄托了作者鲜明的爱憎，反映了广大人民伸张正义、惩治邪恶的愿望。 </a:t>
            </a:r>
            <a:br>
              <a:rPr sz="3000"/>
            </a:br>
            <a:br>
              <a:rPr sz="3000"/>
            </a:br>
            <a:r>
              <a:rPr b="1" lang="zh-CN" sz="3000" spc="-1" strike="noStrike" u="sng">
                <a:solidFill>
                  <a:srgbClr val="ffffff"/>
                </a:solidFill>
                <a:uFillTx/>
                <a:latin typeface="Verdana"/>
              </a:rPr>
              <a:t>语言通俗自然，朴实生动，极富性格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评论家以“本色”二字概括其特色。课文中的曲词，都不事雕琢，感情真切，精练优美，浅显而深邃。 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189000"/>
            <a:ext cx="85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元曲”，一般包括杂剧和散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1268280"/>
            <a:ext cx="61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杂剧是元代文学最高成就的标志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421000"/>
            <a:ext cx="88930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散曲包括小令和套数两种形式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小令是独立的只曲，相当于一首单调的词，主要是从民间的小曲和词调变化来的。如我们熟悉的马致远的《越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天净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秋思》。     　　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套数是由两支以上同宫调的曲子联缀而成的组曲，各套曲子的联缀多有一定的顺序，末曲多以尾声结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268280"/>
            <a:ext cx="8964720" cy="50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关汉卿     代表作《窦娥冤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马致远　  代表作《汉宫秋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白朴      代表作《墙头马上》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《梧桐雨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郑光祖       代表作《倩女离魂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89000"/>
            <a:ext cx="50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曲四大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76360" y="1989000"/>
            <a:ext cx="5905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《窦娥冤》－－关汉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《汉宫秋》－－马致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《梧桐雨》－－白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《赵氏孤儿》－－纪君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4640"/>
            <a:ext cx="3492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268280"/>
            <a:ext cx="2952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27960" y="404640"/>
            <a:ext cx="3106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四大悲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260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元杂剧的发展， 以成宗大德年间为界，分为前后两个时期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前期杂剧中心在大都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是元杂剧的鼎盛时期。这个时期产生了伟大的戏剧家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关汉卿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重要的杂剧作家还有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王实甫代表作、马致远、白朴、杨显之、纪君祥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人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前期杂剧具有强烈的现实主义精神，揭露了黑暗的社会现实，歌颂了人民的反抗斗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8320" y="333360"/>
            <a:ext cx="729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汉仪雪峰体简"/>
              </a:rPr>
              <a:t>元杂剧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333360"/>
            <a:ext cx="820908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后期杂剧中心南移杭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由于后期杂剧作家脱离现实的倾向日趋严重，作品的质量也不如前期。比较重要的作家有郑光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总的看来，元代杂剧的创作出现了空前繁荣的局面，它以辉煌的成就在中国戏剧史上竖起了第一块丰碑，在中国文学史上也占有重要地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6424560"/>
            <a:ext cx="2952720" cy="43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130560" y="6497640"/>
            <a:ext cx="1008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38560" y="6497640"/>
            <a:ext cx="865080" cy="3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02200" y="6497640"/>
            <a:ext cx="93492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76360" y="0"/>
            <a:ext cx="766764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杂剧通常由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四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组成。之外可以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楔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楔子一般放在第一折之前，类似现代剧中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序幕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剧本由曲词，宾白，科介三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曲词：剧中人物的唱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宾白：剧中人物的说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科介：关于动作，表情和音响效果的舞台指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6424560"/>
            <a:ext cx="2952720" cy="43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867280" y="6497640"/>
            <a:ext cx="100836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5640" y="6497640"/>
            <a:ext cx="865080" cy="3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8920" y="6497640"/>
            <a:ext cx="935280" cy="333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81160"/>
            <a:ext cx="77004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体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在音乐上，杂剧的每折用同一宫调的若干曲牌组成套曲。楔子只能用一二支小令，不能用套曲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宫调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，即调式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相当于现代音乐的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调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调等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曲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，是曲调的名称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每个曲牌都属于一定的宫调，就好比词有词牌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1160"/>
            <a:ext cx="77004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体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07:53:12Z</dcterms:created>
  <dc:creator>nhyz</dc:creator>
  <dc:description/>
  <dc:language>en-US</dc:language>
  <cp:lastModifiedBy>User</cp:lastModifiedBy>
  <dcterms:modified xsi:type="dcterms:W3CDTF">2010-11-24T12:48:35Z</dcterms:modified>
  <cp:revision>70</cp:revision>
  <dc:subject/>
  <dc:title>幻灯片 1</dc:title>
</cp:coreProperties>
</file>