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047-E6D0-49EB-AD99-F0EAEBAD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80F-87A9-45F2-9244-A7C02D21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9FF-D34F-47B1-A079-4FC01085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334-2E28-431B-BB2C-DDF75E1A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1E1-FBBC-4B5A-9E4F-F64889F3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418-5376-4221-BC8F-D7A44788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585-B1F0-4EE4-82A0-AE3979AD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32A-E91E-4647-B5A7-9961D9D3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9E3-7490-42CD-8F56-E320FD8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C8B-C0F9-49BD-8B43-AEB76564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A42-7C91-4C8B-813F-EA3EC046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819-77A5-4632-8661-96037829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8806-7D72-4758-83C0-451652F975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80880"/>
            <a:ext cx="7543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争渡，争渡，惊起一滩鸥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              ——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李清照《如梦令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意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品中带有作者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主观感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客观物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通过意象表达情愁，这首词通过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哪些意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展现她的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89000"/>
            <a:ext cx="61912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品读意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00360" y="620640"/>
            <a:ext cx="5943600" cy="178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找出词中的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主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意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57280" y="2971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98620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秋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29862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大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36400" y="4648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黄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4653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细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46530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梧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意象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现“愁”的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客观物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隐含的作者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观情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什么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还知道哪些有相关意象的诗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89000"/>
            <a:ext cx="640872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品读意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966760" y="26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11970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秋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227664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大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17160" y="328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黄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17160" y="544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细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436572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梧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33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借酒浇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349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家国之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12682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凄凉愁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342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孤寂之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443700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牵愁惹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5589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细密愁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580536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梧桐、细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挥想象，联系前后语境，用散文的语言描绘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“梧桐更兼细雨，到黄昏，点点滴滴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场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692280"/>
            <a:ext cx="8532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练习：联系前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语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深入体味意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：由之前的品读我们可以看出，有的意象在诗歌中有固定的含义，如“梧桐”“大雁”等，有的则不然，所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意象不是孤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存在的，我们分析意象时要注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联系上下文在语境中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隐含的意思，体悟其中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22764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品读意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19280" y="1384200"/>
            <a:ext cx="8424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联系词人的生活经历、时代背景分析她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愁因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82680" y="441972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偏安一隅，不思收复——亡国之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0360" y="501012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夫死再嫁，遇人不淑——丧家之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559116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学无传人，不被理解——学艺之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987560"/>
            <a:ext cx="8064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65552"/>
                </a:solidFill>
                <a:latin typeface="Arial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靖康二年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）夏五月，徽、钦二帝被俘，北宋亡。建炎三年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）八月，赵明诚因病去世。清照避难奔走，文物丧失殆尽。绍兴二年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）再嫁张汝舟，遇人不淑，旋即离异。清照无儿女，欲将生平所学授予邻家女孩，赢来一句“才藻非女子事也”。晚年孑然一身，寄人篱下，孤寂而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762120"/>
            <a:ext cx="183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60280"/>
            <a:ext cx="58323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深味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924680" y="5867280"/>
            <a:ext cx="905040" cy="762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14400" y="685800"/>
            <a:ext cx="716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人晚年寡居时孤独、凄苦的生活感受，使得她的愁不仅包含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离别之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还包含个人遭遇与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家国兴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织在一处的愁，所以本词中的愁才格外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深沉、凝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作者运用高超的作词技巧，恰到好处地把多种意象组织起来，成功地将她的愁展示在世人面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位卓绝的诗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位孤独的舞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8839080" y="6172200"/>
            <a:ext cx="30492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范仲淹《渔家傲（塞下秋来风景异）》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塞下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风景异，衡阳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无留意，四面边声连角起，千嶂里，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长烟落日孤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浊酒一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万里，燕然未勒归无计，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羌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悠悠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地，人不寐，将军白发征夫泪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方面是边塞寒苦，久戍思乡之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方面是责任重大，必须担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458200" y="6095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6"/>
          <p:cNvPicPr/>
          <p:nvPr/>
        </p:nvPicPr>
        <p:blipFill>
          <a:blip r:embed="rId2"/>
          <a:stretch/>
        </p:blipFill>
        <p:spPr>
          <a:xfrm>
            <a:off x="4932360" y="33480"/>
            <a:ext cx="4211640" cy="682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import36335_1"/>
          <p:cNvPicPr/>
          <p:nvPr/>
        </p:nvPicPr>
        <p:blipFill>
          <a:blip r:embed="rId3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468040" y="907920"/>
            <a:ext cx="2861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Arial"/>
                <a:ea typeface="隶书"/>
              </a:rPr>
              <a:t>声声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296320" y="4173120"/>
            <a:ext cx="1155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【宋】李清照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723920" y="0"/>
            <a:ext cx="441972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首《如梦令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记溪亭日暮，沉醉不知归路。兴尽晚回舟，误入藕花深处。争渡，争渡，惊起一滩欧鹭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昨夜雨疏风骤，浓睡不消残酒。试问卷帘人，却道海棠依旧。知否，知否？应是绿肥红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首表现了无忧无虑、开朗活泼的性格，后一首则流露了她对年华变迁的怅惘，似乎青春也在这暮春的风雨中被摧残而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72000" y="990720"/>
            <a:ext cx="4267080" cy="2644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红藕香残玉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(diàn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秋，轻解罗裳，独上兰舟。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楷体_GB2312"/>
              </a:rPr>
              <a:t>云中谁寄锦书来？雁字回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月满西楼。 花自飘零水自流，一种相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两处闲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此情无计可消除，才下眉头，却上心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首词大约写于词人新婚不久，是写给她外出求学的丈夫的。写离愁别绪，独居的寂寞，相思之苦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72040" y="393840"/>
            <a:ext cx="23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一剪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8686800" y="6248520"/>
            <a:ext cx="457200" cy="380880"/>
          </a:xfrm>
          <a:prstGeom prst="flowChartConnector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495680" y="380520"/>
            <a:ext cx="41911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醉花阴•重阳》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薄雾浓云愁永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瑞脑销金兽。佳节又重阳，玉枕纱厨，半夜凉初透。东篱把酒黄昏后，有暗香盈袖。莫道不消魂，帘卷西风，人比黄花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赵明诚在外地时，李清照寄给他的一首相思诗。彻骨的爱恋，痴痴的思念，借秋风黄花表现得淋漓尽致。愁中有着甜蜜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030124yijianmei3" descr=""/>
          <p:cNvPicPr/>
          <p:nvPr/>
        </p:nvPicPr>
        <p:blipFill>
          <a:blip r:embed="rId2"/>
          <a:stretch/>
        </p:blipFill>
        <p:spPr>
          <a:xfrm>
            <a:off x="0" y="0"/>
            <a:ext cx="403848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lanhuacao"/>
          <p:cNvPicPr/>
          <p:nvPr/>
        </p:nvPicPr>
        <p:blipFill>
          <a:blip r:embed="rId2"/>
          <a:stretch/>
        </p:blipFill>
        <p:spPr>
          <a:xfrm>
            <a:off x="4716360" y="2276640"/>
            <a:ext cx="4427640" cy="4581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0004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整理本课涉及的意象，感兴趣的同学可以查阅有关资料，搜集古诗常见意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按照本节课所学的鉴赏诗歌的步骤方法，鉴赏课文《蝶恋花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矩形 5" descr=""/>
          <p:cNvPicPr/>
          <p:nvPr/>
        </p:nvPicPr>
        <p:blipFill>
          <a:blip r:embed="rId3"/>
          <a:stretch/>
        </p:blipFill>
        <p:spPr>
          <a:xfrm>
            <a:off x="0" y="0"/>
            <a:ext cx="3803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清照是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婉约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代表，她的词自成一家，被称为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易安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，词作有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漱玉词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靖康之乱时，李清照随家南下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深爱她的丈夫因病去世，从此阴阳相隔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清照亡国继以亡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清照避难奔走，孤苦无依，无奈只得嫁人，然遇人不淑，旋即离异。晚年孑然一身，寄人篱下，孤寂而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550872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知人论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30800" y="1773360"/>
            <a:ext cx="3913200" cy="468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365720"/>
            <a:ext cx="487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内容：怀旧悼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词风：凄婉哀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创艺简隶书"/>
                <a:ea typeface="隶书"/>
              </a:rPr>
              <a:t>她的</a:t>
            </a:r>
            <a:r>
              <a:rPr b="1" lang="zh-CN" sz="3600" spc="-1" strike="noStrike">
                <a:solidFill>
                  <a:srgbClr val="4d4d4d"/>
                </a:solidFill>
                <a:latin typeface="隶书"/>
                <a:ea typeface="隶书"/>
              </a:rPr>
              <a:t>创作以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南渡</a:t>
            </a:r>
            <a:r>
              <a:rPr b="1" lang="zh-CN" sz="3600" spc="-1" strike="noStrike">
                <a:solidFill>
                  <a:srgbClr val="4d4d4d"/>
                </a:solidFill>
                <a:latin typeface="隶书"/>
                <a:ea typeface="隶书"/>
              </a:rPr>
              <a:t>为界分为前后两个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1884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1916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内容：闺怨离愁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词风：清丽柔媚</a:t>
            </a: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4320" y="1916280"/>
            <a:ext cx="127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南渡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80" y="41155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南渡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寻寻觅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7760" y="15228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声声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29528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冷冷清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83000" y="1752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凄凄惨惨戚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4520" y="2209680"/>
            <a:ext cx="33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乍暖还寒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52520" y="2757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难将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0480" y="3276720"/>
            <a:ext cx="40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三杯两盏淡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5280" y="373392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怎敌他、晚来风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58960" y="5257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是旧时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724280"/>
            <a:ext cx="27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伤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19112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雁过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b" descr=""/>
          <p:cNvPicPr/>
          <p:nvPr/>
        </p:nvPicPr>
        <p:blipFill>
          <a:blip r:embed="rId2"/>
          <a:stretch/>
        </p:blipFill>
        <p:spPr>
          <a:xfrm>
            <a:off x="8238960" y="6095880"/>
            <a:ext cx="905040" cy="76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00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150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914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533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满地黄花堆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125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憔悴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676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今有谁堪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224080"/>
            <a:ext cx="23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守著窗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83356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自怎生得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3519360"/>
            <a:ext cx="35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梧桐更兼细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8680" y="42051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到黄昏、点点滴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489096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次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584680"/>
            <a:ext cx="42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怎一个、愁字了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1844640"/>
            <a:ext cx="741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次第，怎一个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了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445000"/>
            <a:ext cx="72388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化多为少，思绪纷茫，欲说还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3284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怎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一个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愁字了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4365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怎一个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愁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了得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3357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愁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443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愁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579600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找出词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6"/>
          <p:cNvPicPr/>
          <p:nvPr/>
        </p:nvPicPr>
        <p:blipFill>
          <a:blip r:embed="rId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61360" y="2309760"/>
            <a:ext cx="2273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寻寻觅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冷冷清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新魏"/>
              </a:rPr>
              <a:t>凄凄惨惨戚戚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 rot="2200200">
            <a:off x="755280" y="62028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66920" y="90792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文中还有直接写“愁”的句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叠词，多角度写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寻寻觅觅————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动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寻而不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冷清清————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环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毫无生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凄凄惨惨戚戚——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心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凄凉悲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49360"/>
            <a:ext cx="80773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后人评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自然贴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，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无斧凿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（张端义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简直成了她个人的专有品牌，彪炳于文学史，空前绝后，没有任何人敢于企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（梁衡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5157720"/>
            <a:ext cx="65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内容上：奠定感情基调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哀婉、凄凉、愁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结构上：回环往复，一唱三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0:03:05Z</dcterms:created>
  <dc:creator>张丹</dc:creator>
  <dc:description/>
  <dc:language>en-US</dc:language>
  <cp:lastModifiedBy>微软用户</cp:lastModifiedBy>
  <dcterms:modified xsi:type="dcterms:W3CDTF">2010-09-15T11:19:47Z</dcterms:modified>
  <cp:revision>39</cp:revision>
  <dc:subject/>
  <dc:title>幻灯片 1</dc:title>
</cp:coreProperties>
</file>